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9.jpeg" ContentType="image/jpeg"/>
  <Override PartName="/ppt/media/image11.png" ContentType="image/png"/>
  <Override PartName="/ppt/media/image26.png" ContentType="image/png"/>
  <Override PartName="/ppt/media/image3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10.png" ContentType="image/png"/>
  <Override PartName="/ppt/media/image30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3C37-5640-4CCB-97ED-B552734CE8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0D8B-F701-419C-A4EA-ECAD0140E2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uring transformation, a cell incorporates DNA from outside the cell into its own DNA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ne way to use bacteria to produce human growth hormone is to insert a human gene into bacterial DNA. The new combination of genes is then returned to a bacterial cell. The bacterial cell containing the gene replicates over and o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8F96-6195-4A55-B6D6-7381A04F30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cterium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grobacterium tumefacien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an be used to introduce foreign DNA into plant cells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f the transformation is successful, the DNA will be integrated into one of the cell’s chromoso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9C44-2D65-46EC-82CC-B2897B9D1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9B63-A3E2-4D08-A179-968DDD4B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B2E9-0128-49A8-B360-05696CD34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9105-CBCA-409A-A8A9-A937314FE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B3954-9C78-4A99-8EF5-C34134953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9101C-D995-49A1-8F0E-DB7A2C2A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465D-373D-4C24-964A-D05FC83A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F28E8-ABDB-45AC-A866-1B13A476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BEA5-098E-4483-8E3A-EBD6BEC6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E2A7-BBAE-4CCC-8312-4384B0EE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6C68-90D9-4502-9CC3-CD05C5A4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92EB-848C-400F-B8A3-5E2129F4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AC0A-D9D7-48DB-ACC0-89A50B46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A7B9-D7B7-48C1-9D95-42352D3B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CCDD9-52B6-4854-A4B1-782D89A6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04E5-50E5-4AF5-92E2-79273ED71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586E-4297-4F25-9394-5170C55D7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9CE1E-CFD2-4C80-B4A3-0D7086619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0178F-6AD6-4167-9EAF-3C1DAFB1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E52F2-4620-418E-8EAB-F57E7955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D8041-C32B-4B20-B44C-691FFA99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74757-CF59-401B-86D3-C4E4B67E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9AFC-F69C-49E4-82B5-86D8FC8E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E55E4-6A9B-4B66-B140-AB6930FF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7C029-8C29-44D2-97F9-40742F5C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378C5-1F2C-4094-A36F-4805615F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984CC-AA0A-4832-B346-2ACDD78B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5BB5B-890C-4FE5-BBB6-49A5686B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9637E-D14F-4287-8B77-B70B8F0B9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5D070-0E0F-40E1-B1C8-F0296DCA3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FA1C4-E661-4BA9-9D80-589B5C0DA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501AC-FB81-4341-9ECE-CE33CF94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8B822-78E5-49FB-A10D-B8028FFE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75E1-D46E-498A-BDC6-743B8FE0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FC4CF-95E3-42D3-9C24-3215B936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3E202-ED9D-4E52-9B61-00E92E95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C6053-CEA2-459F-A7C7-4E2A00EE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31227-168A-4288-A264-7F24E4B9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BFEBB-AC55-4E64-9CF9-B4A0D762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F1C61-3942-49DF-94EF-1A39AF4C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FD38A-BF16-4FD0-A542-0438697C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D7439-25B8-4704-A2A5-325684C04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D2A7B-E1AF-4692-946A-AFCF17B5C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A9EEA-CBFD-41A2-B1BD-9B9B1F995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1A19-8E22-4B2F-8F4D-A7AC5781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49C9B-92B7-4F35-A403-43EF99DC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C540C-4C17-493E-B0DC-5D042B95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DEEF2-5CD1-4FD0-AAC9-FAD8C59EA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44BD3-F05C-426B-9362-F3BF3D0A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42CF7-A7AB-4289-9ECC-2221EAB5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2623A-0450-46AA-A5BE-ABD8A1A2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D1A33-7D16-43D3-9173-C7EB7FB6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F0DD8-0531-4F5A-86D5-23A09BB8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7DF46-FAC7-4939-B22C-5D032C2B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E8B84-D0E8-4D4D-BF63-FFE87566F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31E6-5C78-422A-A25E-E77972E0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CD993-051A-4F65-A454-CB9D1FED5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1A2BA-44FA-4DE0-A81F-1E58DFEA4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1A8CE-9AA2-4824-B390-52F418FC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2E654-2BC9-422F-A140-5FDB3098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F485C-77BB-457C-85CA-A914C0A0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6FD55-7860-4340-9476-8867730D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4021D-49A2-433F-8A5B-DD7B4950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26CF7-A73E-4F1F-870B-C7AF7FA5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D4BDC-954B-4880-9CFF-F00E75FE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57FCF-F4F8-40F9-9F60-A4F985E1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2218-6D7D-4E11-9833-D20D1069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076D1-6B0E-4FC5-BA73-AA113F62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344D6-1957-45A4-9224-845B955C1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C3306-C1F6-46E7-953B-49086BED8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69AC7-49DF-40EA-883C-97E058CA2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B13E5-4020-4A26-8F58-E9D8515A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8C41C-5871-4FC8-B88D-75A2DD61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39A2C-A4E1-4B8F-AEF5-A202205A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704B9-C366-4BDB-8812-AEC58484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6DAF5-191D-42FE-A9C6-9474F303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9162B-04CB-480F-9011-25570772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A39A-0708-4900-A73C-21E5277B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8CE00-9CAA-4CFA-B973-870077ED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DD86B-D09A-4122-B119-2B97D373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E87EA-D11C-46A2-9560-494F6E13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61817-CBF6-4D4C-AA4A-736126914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E7E39-317B-483C-80FB-B772314A5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ABE81-5BB3-422A-AF9C-C57495B18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F3812-BF7E-4E23-9DFD-F6705281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ECE4A-45B6-4D1D-9E34-8EB9B785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87BCF-80D3-4A49-8E65-C0B1FFA5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18477-0053-405E-A356-D4D9EBBE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2A83-2662-4173-A78E-2A1EB8AF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7C317-93D6-4DA5-AC5E-F21BF969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5863F-D564-4EC1-9D07-2ADCBC12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95571-DF3D-4098-B458-C3F561C7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5E4D6-0AD9-4229-9B18-5A0E5A36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4F48F-0668-47E5-937B-46EEE061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CE221-2897-4BD7-B8C1-BE27FE612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053D2-6026-4D80-B5BA-A33B95A94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DA56-DDF8-4874-B6D1-6D135A22BD4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0D54-DFE1-4CF0-9DC6-807263D938DB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8CF8-BDA3-46FB-B30E-0C56DADDF22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FA41-4DE1-4C6E-A26F-4764220206F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363F-4C71-4F66-9595-B258A0F1D56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237F-950A-4057-AFE6-4ABEBE69D30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9DA6-ECEA-4412-BECD-6BBD0125F52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ECF9-7344-4F86-AE05-C67884D809A5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HMC7c2T8fVk" TargetMode="External"/><Relationship Id="rId2" Type="http://schemas.openxmlformats.org/officeDocument/2006/relationships/hyperlink" Target="http://www.youtube.com/watch?v=_YgXcJ4n-kQ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2133720" y="0"/>
            <a:ext cx="487656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73515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youtube.com/watch?v=HMC7c2T8fV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://www.youtube.com/watch?v=_YgXcJ4n-kQ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all that restriction enzymes make “sticky ends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works with any organism that has DNA as its genetic materi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s a result, sections of DNA from one organism can be spliced into anoth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acteria is often used since it has plasmi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se are small, circular strands of DNA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asy to remov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original version is called a cloning vect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457200"/>
            <a:ext cx="822960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lasmids are easily removed and reinserte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have used these cloning vectors to engineer bacteria to produce proteins such as insulin and growth hormo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383760" y="1450800"/>
            <a:ext cx="8642520" cy="48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Picture 8" descr="p327-5"/>
          <p:cNvPicPr/>
          <p:nvPr/>
        </p:nvPicPr>
        <p:blipFill>
          <a:blip r:embed="rId2"/>
          <a:stretch/>
        </p:blipFill>
        <p:spPr>
          <a:xfrm>
            <a:off x="4995720" y="3108240"/>
            <a:ext cx="2846520" cy="30114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9" descr="p327-1"/>
          <p:cNvPicPr/>
          <p:nvPr/>
        </p:nvPicPr>
        <p:blipFill>
          <a:blip r:embed="rId3"/>
          <a:stretch/>
        </p:blipFill>
        <p:spPr>
          <a:xfrm>
            <a:off x="455760" y="1317600"/>
            <a:ext cx="2350800" cy="49928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0" descr="p327-2"/>
          <p:cNvPicPr/>
          <p:nvPr/>
        </p:nvPicPr>
        <p:blipFill>
          <a:blip r:embed="rId4"/>
          <a:stretch/>
        </p:blipFill>
        <p:spPr>
          <a:xfrm>
            <a:off x="1552680" y="1228680"/>
            <a:ext cx="3138480" cy="52246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2" descr="p327-4"/>
          <p:cNvPicPr/>
          <p:nvPr/>
        </p:nvPicPr>
        <p:blipFill>
          <a:blip r:embed="rId5"/>
          <a:stretch/>
        </p:blipFill>
        <p:spPr>
          <a:xfrm>
            <a:off x="4897440" y="1003320"/>
            <a:ext cx="3060720" cy="27813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1" descr="p327-3"/>
          <p:cNvPicPr/>
          <p:nvPr/>
        </p:nvPicPr>
        <p:blipFill>
          <a:blip r:embed="rId6"/>
          <a:stretch/>
        </p:blipFill>
        <p:spPr>
          <a:xfrm>
            <a:off x="3789360" y="1763640"/>
            <a:ext cx="2309760" cy="354024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22"/>
          <p:cNvSpPr/>
          <p:nvPr/>
        </p:nvSpPr>
        <p:spPr>
          <a:xfrm>
            <a:off x="4152960" y="1098720"/>
            <a:ext cx="838080" cy="47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4"/>
          <p:cNvSpPr/>
          <p:nvPr/>
        </p:nvSpPr>
        <p:spPr>
          <a:xfrm>
            <a:off x="2882880" y="4317840"/>
            <a:ext cx="838080" cy="4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8"/>
          <p:cNvSpPr/>
          <p:nvPr/>
        </p:nvSpPr>
        <p:spPr>
          <a:xfrm>
            <a:off x="4998960" y="1112760"/>
            <a:ext cx="1265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9"/>
          <p:cNvSpPr/>
          <p:nvPr/>
        </p:nvSpPr>
        <p:spPr>
          <a:xfrm>
            <a:off x="4925880" y="1398600"/>
            <a:ext cx="6224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7"/>
          <p:cNvSpPr/>
          <p:nvPr/>
        </p:nvSpPr>
        <p:spPr>
          <a:xfrm>
            <a:off x="4800600" y="9270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Recombinant D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30"/>
          <p:cNvSpPr/>
          <p:nvPr/>
        </p:nvSpPr>
        <p:spPr>
          <a:xfrm>
            <a:off x="6492960" y="853920"/>
            <a:ext cx="1644480" cy="59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1"/>
          <p:cNvSpPr/>
          <p:nvPr/>
        </p:nvSpPr>
        <p:spPr>
          <a:xfrm>
            <a:off x="6784920" y="7970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Gene for human growth horm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33"/>
          <p:cNvSpPr/>
          <p:nvPr/>
        </p:nvSpPr>
        <p:spPr>
          <a:xfrm>
            <a:off x="2651040" y="1849320"/>
            <a:ext cx="1790640" cy="72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2"/>
          <p:cNvSpPr/>
          <p:nvPr/>
        </p:nvSpPr>
        <p:spPr>
          <a:xfrm>
            <a:off x="2514600" y="18828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Gene for human growth horm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4"/>
          <p:cNvSpPr/>
          <p:nvPr/>
        </p:nvSpPr>
        <p:spPr>
          <a:xfrm>
            <a:off x="74520" y="2917800"/>
            <a:ext cx="179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Human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35"/>
          <p:cNvSpPr/>
          <p:nvPr/>
        </p:nvSpPr>
        <p:spPr>
          <a:xfrm>
            <a:off x="0" y="3816360"/>
            <a:ext cx="2057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Bacteria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36"/>
          <p:cNvSpPr/>
          <p:nvPr/>
        </p:nvSpPr>
        <p:spPr>
          <a:xfrm>
            <a:off x="1717560" y="2949480"/>
            <a:ext cx="184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Bacterial chromo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26" descr="eco"/>
          <p:cNvPicPr/>
          <p:nvPr/>
        </p:nvPicPr>
        <p:blipFill>
          <a:blip r:embed="rId7"/>
          <a:stretch/>
        </p:blipFill>
        <p:spPr>
          <a:xfrm>
            <a:off x="2981160" y="4184640"/>
            <a:ext cx="755640" cy="563400"/>
          </a:xfrm>
          <a:prstGeom prst="rect">
            <a:avLst/>
          </a:prstGeom>
          <a:ln w="0">
            <a:noFill/>
          </a:ln>
        </p:spPr>
      </p:pic>
      <p:sp>
        <p:nvSpPr>
          <p:cNvPr id="416" name="Freeform 37"/>
          <p:cNvSpPr/>
          <p:nvPr/>
        </p:nvSpPr>
        <p:spPr>
          <a:xfrm>
            <a:off x="1562040" y="4143240"/>
            <a:ext cx="1314360" cy="59076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590760"/>
              <a:gd name="textAreaBottom" fmla="*/ 591120 h 590760"/>
            </a:gdLst>
            <a:ahLst/>
            <a:rect l="textAreaLeft" t="textAreaTop" r="textAreaRight" b="textAreaBottom"/>
            <a:pathLst>
              <a:path w="828" h="372">
                <a:moveTo>
                  <a:pt x="42" y="348"/>
                </a:moveTo>
                <a:lnTo>
                  <a:pt x="24" y="264"/>
                </a:lnTo>
                <a:lnTo>
                  <a:pt x="0" y="204"/>
                </a:lnTo>
                <a:lnTo>
                  <a:pt x="0" y="60"/>
                </a:lnTo>
                <a:lnTo>
                  <a:pt x="126" y="12"/>
                </a:lnTo>
                <a:lnTo>
                  <a:pt x="522" y="0"/>
                </a:lnTo>
                <a:lnTo>
                  <a:pt x="744" y="96"/>
                </a:lnTo>
                <a:lnTo>
                  <a:pt x="828" y="216"/>
                </a:lnTo>
                <a:lnTo>
                  <a:pt x="822" y="312"/>
                </a:lnTo>
                <a:lnTo>
                  <a:pt x="366" y="372"/>
                </a:lnTo>
                <a:lnTo>
                  <a:pt x="108" y="360"/>
                </a:lnTo>
                <a:lnTo>
                  <a:pt x="24" y="29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41"/>
          <p:cNvSpPr/>
          <p:nvPr/>
        </p:nvSpPr>
        <p:spPr>
          <a:xfrm>
            <a:off x="1467000" y="3552840"/>
            <a:ext cx="771480" cy="1162080"/>
          </a:xfrm>
          <a:custGeom>
            <a:avLst/>
            <a:gdLst>
              <a:gd name="textAreaLeft" fmla="*/ 0 w 771480"/>
              <a:gd name="textAreaRight" fmla="*/ 771840 w 771480"/>
              <a:gd name="textAreaTop" fmla="*/ 0 h 1162080"/>
              <a:gd name="textAreaBottom" fmla="*/ 1162440 h 1162080"/>
            </a:gdLst>
            <a:ahLst/>
            <a:rect l="textAreaLeft" t="textAreaTop" r="textAreaRight" b="textAreaBottom"/>
            <a:pathLst>
              <a:path w="486" h="732">
                <a:moveTo>
                  <a:pt x="0" y="732"/>
                </a:moveTo>
                <a:lnTo>
                  <a:pt x="486" y="420"/>
                </a:lnTo>
                <a:lnTo>
                  <a:pt x="48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42"/>
          <p:cNvSpPr/>
          <p:nvPr/>
        </p:nvSpPr>
        <p:spPr>
          <a:xfrm>
            <a:off x="1298520" y="6122880"/>
            <a:ext cx="1174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Plasm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44"/>
          <p:cNvSpPr/>
          <p:nvPr/>
        </p:nvSpPr>
        <p:spPr>
          <a:xfrm>
            <a:off x="3724200" y="3019320"/>
            <a:ext cx="628560" cy="44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43"/>
          <p:cNvSpPr/>
          <p:nvPr/>
        </p:nvSpPr>
        <p:spPr>
          <a:xfrm>
            <a:off x="3517920" y="2905200"/>
            <a:ext cx="98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ticky 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6"/>
          <p:cNvSpPr/>
          <p:nvPr/>
        </p:nvSpPr>
        <p:spPr>
          <a:xfrm>
            <a:off x="5118120" y="2838600"/>
            <a:ext cx="1276200" cy="40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45"/>
          <p:cNvSpPr/>
          <p:nvPr/>
        </p:nvSpPr>
        <p:spPr>
          <a:xfrm>
            <a:off x="5116680" y="2749680"/>
            <a:ext cx="1819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DNA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recomb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47"/>
          <p:cNvSpPr/>
          <p:nvPr/>
        </p:nvSpPr>
        <p:spPr>
          <a:xfrm>
            <a:off x="4780080" y="5398920"/>
            <a:ext cx="22510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Bacteria cell containing gene for human growth horm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48"/>
          <p:cNvSpPr/>
          <p:nvPr/>
        </p:nvSpPr>
        <p:spPr>
          <a:xfrm>
            <a:off x="7128000" y="3232080"/>
            <a:ext cx="1231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DNA inser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49"/>
          <p:cNvSpPr/>
          <p:nvPr/>
        </p:nvSpPr>
        <p:spPr>
          <a:xfrm>
            <a:off x="2681280" y="1106640"/>
            <a:ext cx="838080" cy="47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25" descr="eco"/>
          <p:cNvPicPr/>
          <p:nvPr/>
        </p:nvPicPr>
        <p:blipFill>
          <a:blip r:embed="rId8"/>
          <a:stretch/>
        </p:blipFill>
        <p:spPr>
          <a:xfrm>
            <a:off x="3897360" y="1041480"/>
            <a:ext cx="674640" cy="5032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0" descr="eco"/>
          <p:cNvPicPr/>
          <p:nvPr/>
        </p:nvPicPr>
        <p:blipFill>
          <a:blip r:embed="rId9"/>
          <a:stretch/>
        </p:blipFill>
        <p:spPr>
          <a:xfrm>
            <a:off x="2759040" y="1050840"/>
            <a:ext cx="674640" cy="503280"/>
          </a:xfrm>
          <a:prstGeom prst="rect">
            <a:avLst/>
          </a:prstGeom>
          <a:ln w="0">
            <a:noFill/>
          </a:ln>
        </p:spPr>
      </p:pic>
      <p:sp>
        <p:nvSpPr>
          <p:cNvPr id="428" name="Line 52"/>
          <p:cNvSpPr/>
          <p:nvPr/>
        </p:nvSpPr>
        <p:spPr>
          <a:xfrm flipH="1">
            <a:off x="6791040" y="5533920"/>
            <a:ext cx="447480" cy="447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53"/>
          <p:cNvSpPr/>
          <p:nvPr/>
        </p:nvSpPr>
        <p:spPr>
          <a:xfrm flipH="1" flipV="1">
            <a:off x="4314600" y="3371760"/>
            <a:ext cx="48564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54"/>
          <p:cNvSpPr/>
          <p:nvPr/>
        </p:nvSpPr>
        <p:spPr>
          <a:xfrm flipH="1">
            <a:off x="4210200" y="2762280"/>
            <a:ext cx="142560" cy="21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55"/>
          <p:cNvSpPr/>
          <p:nvPr/>
        </p:nvSpPr>
        <p:spPr>
          <a:xfrm flipH="1" flipV="1">
            <a:off x="5467320" y="1495440"/>
            <a:ext cx="1000080" cy="40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56"/>
          <p:cNvSpPr/>
          <p:nvPr/>
        </p:nvSpPr>
        <p:spPr>
          <a:xfrm flipV="1">
            <a:off x="7448400" y="1418760"/>
            <a:ext cx="47880" cy="352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57"/>
          <p:cNvSpPr/>
          <p:nvPr/>
        </p:nvSpPr>
        <p:spPr>
          <a:xfrm>
            <a:off x="3000240" y="5057640"/>
            <a:ext cx="162000" cy="123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58"/>
          <p:cNvSpPr/>
          <p:nvPr/>
        </p:nvSpPr>
        <p:spPr>
          <a:xfrm flipH="1">
            <a:off x="885960" y="2584440"/>
            <a:ext cx="115920" cy="390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59"/>
          <p:cNvSpPr/>
          <p:nvPr/>
        </p:nvSpPr>
        <p:spPr>
          <a:xfrm flipH="1" flipV="1">
            <a:off x="928800" y="4092120"/>
            <a:ext cx="179280" cy="459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60"/>
          <p:cNvSpPr/>
          <p:nvPr/>
        </p:nvSpPr>
        <p:spPr>
          <a:xfrm>
            <a:off x="1276200" y="5848200"/>
            <a:ext cx="209880" cy="266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61"/>
          <p:cNvSpPr/>
          <p:nvPr/>
        </p:nvSpPr>
        <p:spPr>
          <a:xfrm>
            <a:off x="0" y="0"/>
            <a:ext cx="205416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457200" y="609120"/>
            <a:ext cx="8229600" cy="53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NA that has been modified by adding foreign segments is called recombina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also possible to transform multicellular organisms such as plants and anima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do so, microorganisms, such as bacteria and viruses, must be us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example, a bacteria that causes tumors in plants can be altered so the tumor gene is replaced by a useful ge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ever, these methods can only work if the microorganism can insert its DNA into a ho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5410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25" descr="p328-4"/>
          <p:cNvPicPr/>
          <p:nvPr/>
        </p:nvPicPr>
        <p:blipFill>
          <a:blip r:embed="rId1"/>
          <a:stretch/>
        </p:blipFill>
        <p:spPr>
          <a:xfrm>
            <a:off x="4411800" y="1374840"/>
            <a:ext cx="2541600" cy="29541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6" descr="328-5"/>
          <p:cNvPicPr/>
          <p:nvPr/>
        </p:nvPicPr>
        <p:blipFill>
          <a:blip r:embed="rId2"/>
          <a:stretch/>
        </p:blipFill>
        <p:spPr>
          <a:xfrm>
            <a:off x="6496200" y="2506680"/>
            <a:ext cx="1806480" cy="27226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27" descr="329-2"/>
          <p:cNvPicPr/>
          <p:nvPr/>
        </p:nvPicPr>
        <p:blipFill>
          <a:blip r:embed="rId3"/>
          <a:stretch/>
        </p:blipFill>
        <p:spPr>
          <a:xfrm>
            <a:off x="1712880" y="1590840"/>
            <a:ext cx="1897200" cy="15919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28" descr="p328-1"/>
          <p:cNvPicPr/>
          <p:nvPr/>
        </p:nvPicPr>
        <p:blipFill>
          <a:blip r:embed="rId4"/>
          <a:stretch/>
        </p:blipFill>
        <p:spPr>
          <a:xfrm>
            <a:off x="371520" y="2666880"/>
            <a:ext cx="1576440" cy="157644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29" descr="p328-3"/>
          <p:cNvPicPr/>
          <p:nvPr/>
        </p:nvPicPr>
        <p:blipFill>
          <a:blip r:embed="rId5"/>
          <a:stretch/>
        </p:blipFill>
        <p:spPr>
          <a:xfrm>
            <a:off x="3067200" y="3179880"/>
            <a:ext cx="1855800" cy="2747880"/>
          </a:xfrm>
          <a:prstGeom prst="rect">
            <a:avLst/>
          </a:prstGeom>
          <a:ln w="0">
            <a:noFill/>
          </a:ln>
        </p:spPr>
      </p:pic>
      <p:pic>
        <p:nvPicPr>
          <p:cNvPr id="446" name="Rectangle 6" descr=""/>
          <p:cNvPicPr/>
          <p:nvPr/>
        </p:nvPicPr>
        <p:blipFill>
          <a:blip r:embed="rId6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7" name="Rectangle 9"/>
          <p:cNvSpPr/>
          <p:nvPr/>
        </p:nvSpPr>
        <p:spPr>
          <a:xfrm>
            <a:off x="6865920" y="5689440"/>
            <a:ext cx="1203480" cy="493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8"/>
          <p:cNvSpPr/>
          <p:nvPr/>
        </p:nvSpPr>
        <p:spPr>
          <a:xfrm>
            <a:off x="6464160" y="5302080"/>
            <a:ext cx="213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omplete plant generated from  transformed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0"/>
          <p:cNvSpPr/>
          <p:nvPr/>
        </p:nvSpPr>
        <p:spPr>
          <a:xfrm>
            <a:off x="6905520" y="658800"/>
            <a:ext cx="2046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nside plant cell,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Agrobacterium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inserts part of its DNA into host cell chromos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2"/>
          <p:cNvSpPr/>
          <p:nvPr/>
        </p:nvSpPr>
        <p:spPr>
          <a:xfrm>
            <a:off x="1341360" y="5383080"/>
            <a:ext cx="145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Plant cell colo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2932200" y="5808600"/>
            <a:ext cx="307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ransformed bacteria introduce plasmids into plant cell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6"/>
          <p:cNvSpPr/>
          <p:nvPr/>
        </p:nvSpPr>
        <p:spPr>
          <a:xfrm>
            <a:off x="3836880" y="1663560"/>
            <a:ext cx="25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Agrobacterium tumefacie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9"/>
          <p:cNvSpPr/>
          <p:nvPr/>
        </p:nvSpPr>
        <p:spPr>
          <a:xfrm>
            <a:off x="3976560" y="2583000"/>
            <a:ext cx="84312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3836880" y="2567160"/>
            <a:ext cx="15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ellular D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20"/>
          <p:cNvSpPr/>
          <p:nvPr/>
        </p:nvSpPr>
        <p:spPr>
          <a:xfrm>
            <a:off x="227160" y="1758960"/>
            <a:ext cx="19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Gene to be transfer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22"/>
          <p:cNvSpPr/>
          <p:nvPr/>
        </p:nvSpPr>
        <p:spPr>
          <a:xfrm>
            <a:off x="384120" y="4395960"/>
            <a:ext cx="23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Recombinant plasm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30"/>
          <p:cNvSpPr/>
          <p:nvPr/>
        </p:nvSpPr>
        <p:spPr>
          <a:xfrm flipH="1" flipV="1">
            <a:off x="864720" y="2390760"/>
            <a:ext cx="47880" cy="40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31"/>
          <p:cNvSpPr/>
          <p:nvPr/>
        </p:nvSpPr>
        <p:spPr>
          <a:xfrm flipV="1">
            <a:off x="3543480" y="1999800"/>
            <a:ext cx="3427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32"/>
          <p:cNvSpPr/>
          <p:nvPr/>
        </p:nvSpPr>
        <p:spPr>
          <a:xfrm>
            <a:off x="3498840" y="2617920"/>
            <a:ext cx="376200" cy="68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33"/>
          <p:cNvSpPr/>
          <p:nvPr/>
        </p:nvSpPr>
        <p:spPr>
          <a:xfrm flipH="1">
            <a:off x="2857680" y="5041800"/>
            <a:ext cx="720720" cy="40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34"/>
          <p:cNvSpPr/>
          <p:nvPr/>
        </p:nvSpPr>
        <p:spPr>
          <a:xfrm>
            <a:off x="2982960" y="5335560"/>
            <a:ext cx="722160" cy="17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51"/>
          <p:cNvSpPr/>
          <p:nvPr/>
        </p:nvSpPr>
        <p:spPr>
          <a:xfrm>
            <a:off x="2859120" y="3062160"/>
            <a:ext cx="784080" cy="1278000"/>
          </a:xfrm>
          <a:custGeom>
            <a:avLst/>
            <a:gdLst>
              <a:gd name="textAreaLeft" fmla="*/ 0 w 784080"/>
              <a:gd name="textAreaRight" fmla="*/ 784440 w 78408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484" h="787">
                <a:moveTo>
                  <a:pt x="36" y="0"/>
                </a:moveTo>
                <a:lnTo>
                  <a:pt x="183" y="74"/>
                </a:lnTo>
                <a:lnTo>
                  <a:pt x="237" y="37"/>
                </a:lnTo>
                <a:lnTo>
                  <a:pt x="320" y="92"/>
                </a:lnTo>
                <a:lnTo>
                  <a:pt x="311" y="302"/>
                </a:lnTo>
                <a:lnTo>
                  <a:pt x="484" y="540"/>
                </a:lnTo>
                <a:lnTo>
                  <a:pt x="411" y="787"/>
                </a:lnTo>
                <a:lnTo>
                  <a:pt x="183" y="732"/>
                </a:lnTo>
                <a:lnTo>
                  <a:pt x="0" y="128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52"/>
          <p:cNvSpPr/>
          <p:nvPr/>
        </p:nvSpPr>
        <p:spPr>
          <a:xfrm>
            <a:off x="1552680" y="2511360"/>
            <a:ext cx="493560" cy="493920"/>
          </a:xfrm>
          <a:custGeom>
            <a:avLst/>
            <a:gdLst>
              <a:gd name="textAreaLeft" fmla="*/ 0 w 493560"/>
              <a:gd name="textAreaRight" fmla="*/ 493920 w 493560"/>
              <a:gd name="textAreaTop" fmla="*/ 0 h 493920"/>
              <a:gd name="textAreaBottom" fmla="*/ 494280 h 493920"/>
            </a:gdLst>
            <a:ahLst/>
            <a:rect l="textAreaLeft" t="textAreaTop" r="textAreaRight" b="textAreaBottom"/>
            <a:pathLst>
              <a:path w="311" h="311">
                <a:moveTo>
                  <a:pt x="183" y="0"/>
                </a:moveTo>
                <a:lnTo>
                  <a:pt x="311" y="137"/>
                </a:lnTo>
                <a:lnTo>
                  <a:pt x="266" y="265"/>
                </a:lnTo>
                <a:lnTo>
                  <a:pt x="202" y="311"/>
                </a:lnTo>
                <a:lnTo>
                  <a:pt x="46" y="173"/>
                </a:lnTo>
                <a:lnTo>
                  <a:pt x="0" y="9"/>
                </a:lnTo>
                <a:lnTo>
                  <a:pt x="18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54"/>
          <p:cNvSpPr/>
          <p:nvPr/>
        </p:nvSpPr>
        <p:spPr>
          <a:xfrm rot="262800">
            <a:off x="3139560" y="3479760"/>
            <a:ext cx="324000" cy="771480"/>
          </a:xfrm>
          <a:custGeom>
            <a:avLst/>
            <a:gdLst>
              <a:gd name="textAreaLeft" fmla="*/ 0 w 324000"/>
              <a:gd name="textAreaRight" fmla="*/ 324360 w 324000"/>
              <a:gd name="textAreaTop" fmla="*/ 0 h 771480"/>
              <a:gd name="textAreaBottom" fmla="*/ 771840 h 771480"/>
            </a:gdLst>
            <a:ahLst/>
            <a:rect l="textAreaLeft" t="textAreaTop" r="textAreaRight" b="textAreaBottom"/>
            <a:pathLst>
              <a:path w="187" h="576">
                <a:moveTo>
                  <a:pt x="5" y="0"/>
                </a:moveTo>
                <a:cubicBezTo>
                  <a:pt x="2" y="46"/>
                  <a:pt x="0" y="93"/>
                  <a:pt x="14" y="165"/>
                </a:cubicBezTo>
                <a:cubicBezTo>
                  <a:pt x="28" y="237"/>
                  <a:pt x="58" y="362"/>
                  <a:pt x="87" y="430"/>
                </a:cubicBezTo>
                <a:cubicBezTo>
                  <a:pt x="116" y="498"/>
                  <a:pt x="151" y="537"/>
                  <a:pt x="187" y="576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important to know the order of nucleotides in a strand of D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process of DNA sequencing (determining the order of nucleotides) uses processes found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in vivo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inside the cell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all that DNA polymerase adds complementary nucleotides to a single strand of D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nucleotides are found in high concentration in the cel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0" y="1523880"/>
            <a:ext cx="91058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5331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cientists attempt to mimic this process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in vitro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in a lab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length of DNA is first heat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is separates the two strand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n, a heat-resistant DNA pol is add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rdinary A, C, T and G nucleotides are added in high concentr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ever, a special type of each nucleotide is also added in low concentr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wo features make them uniqu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y are fluorescently label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y lack two hydroxyl groups on carbon 2 and 3 (called dideoxy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1600200" y="990720"/>
            <a:ext cx="647712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3805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label allows them to be detected when ran through a gel (more on this later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missing hydroxyls stops DNA pol from adding any more nucleotides past that poi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addition of the modified nucleotides is always rando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ventually, a set of labeled strands of all lengths is generat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ach ends with a dd nucleotide (one of four possible colours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are ran through a gel, arranging them in order of siz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3" descr=""/>
          <p:cNvPicPr/>
          <p:nvPr/>
        </p:nvPicPr>
        <p:blipFill>
          <a:blip r:embed="rId1"/>
          <a:stretch/>
        </p:blipFill>
        <p:spPr>
          <a:xfrm>
            <a:off x="819000" y="1238400"/>
            <a:ext cx="7506000" cy="43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gel is passed through a detector, determining the order of the nucelotid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metimes, scientists want to make copies of a strand of D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For example, a small amount of DNA left at a crime scen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can be done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in vitro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hrough a polymerase chain rea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volves a three step cyc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eat to separate strand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ooling to allow annealing of DNA primer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ddition of nucleotides via DNA po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5:15:44Z</dcterms:created>
  <dc:creator>ED18</dc:creator>
  <dc:description/>
  <dc:language>en-US</dc:language>
  <cp:lastModifiedBy>ED18</cp:lastModifiedBy>
  <dcterms:modified xsi:type="dcterms:W3CDTF">2011-04-07T10:23:26Z</dcterms:modified>
  <cp:revision>8</cp:revision>
  <dc:subject/>
  <dc:title>Genetic Engineering</dc:title>
</cp:coreProperties>
</file>